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2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6440" y="46080"/>
            <a:ext cx="8940960" cy="3988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章  中断系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76520" y="289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5714640" y="289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40.xml"/><Relationship Id="rId9" Type="http://schemas.openxmlformats.org/officeDocument/2006/relationships/slide" Target="slide40.xml"/><Relationship Id="rId10" Type="http://schemas.openxmlformats.org/officeDocument/2006/relationships/slide" Target="slide40.xml"/><Relationship Id="rId11" Type="http://schemas.openxmlformats.org/officeDocument/2006/relationships/slide" Target="slide62.xml"/><Relationship Id="rId12" Type="http://schemas.openxmlformats.org/officeDocument/2006/relationships/slide" Target="slide62.xml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30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7.xml"/><Relationship Id="rId9" Type="http://schemas.openxmlformats.org/officeDocument/2006/relationships/slide" Target="slide37.xml"/><Relationship Id="rId10" Type="http://schemas.openxmlformats.org/officeDocument/2006/relationships/slide" Target="slide37.xm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1.xml"/><Relationship Id="rId9" Type="http://schemas.openxmlformats.org/officeDocument/2006/relationships/slide" Target="slide52.xml"/><Relationship Id="rId10" Type="http://schemas.openxmlformats.org/officeDocument/2006/relationships/slide" Target="slide53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56.xml"/><Relationship Id="rId1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3.xml"/><Relationship Id="rId3" Type="http://schemas.openxmlformats.org/officeDocument/2006/relationships/slide" Target="slide63.xml"/><Relationship Id="rId4" Type="http://schemas.openxmlformats.org/officeDocument/2006/relationships/slide" Target="slide63.xml"/><Relationship Id="rId5" Type="http://schemas.openxmlformats.org/officeDocument/2006/relationships/slide" Target="slide63.xml"/><Relationship Id="rId6" Type="http://schemas.openxmlformats.org/officeDocument/2006/relationships/slide" Target="slide63.xml"/><Relationship Id="rId7" Type="http://schemas.openxmlformats.org/officeDocument/2006/relationships/slide" Target="slide65.xml"/><Relationship Id="rId8" Type="http://schemas.openxmlformats.org/officeDocument/2006/relationships/slide" Target="slide65.xml"/><Relationship Id="rId9" Type="http://schemas.openxmlformats.org/officeDocument/2006/relationships/slide" Target="slide65.xml"/><Relationship Id="rId10" Type="http://schemas.openxmlformats.org/officeDocument/2006/relationships/slide" Target="slide65.xml"/><Relationship Id="rId11" Type="http://schemas.openxmlformats.org/officeDocument/2006/relationships/slide" Target="slide65.xml"/><Relationship Id="rId12" Type="http://schemas.openxmlformats.org/officeDocument/2006/relationships/slide" Target="slide65.xml"/><Relationship Id="rId1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系统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172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5.1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中断系统基本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5.2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中断的处理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5.3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BM-PC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机中断系统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5.4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Intel 8259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可编程中断控制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.5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中断程序举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28800" y="5867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中断请求的处理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单级中断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多级中断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5260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排队与中断源的识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3~5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程序查询识别（软件查询法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线串行顺序链识别（硬件查询法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向量法识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5486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3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级中断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级中断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192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056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485840" y="1295280"/>
            <a:ext cx="911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查询识别中断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85920" y="12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662040"/>
            <a:ext cx="632484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9548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8367840" cy="3809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57913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顺序链识别中断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5867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量中断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914400"/>
          <a:ext cx="792468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79246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2.3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响应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90920" y="1981080"/>
            <a:ext cx="4572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响应的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中断隐指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中断矢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响应的条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中断请求触发器，发出中断请求信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中断屏蔽触发器，当此触发器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允许外设的中断请求才能被送出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于开中断状态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条现行指令结束之后响应中断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响应的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发出中断响应信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同时自动关中断，即置中断允许触发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存断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护现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到中断服务程序逻辑的入口地址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2.4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处理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起始部分—保护现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主体部分—中断服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结尾部分—恢复现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握有关中断的基本概念、中断优先级、中断嵌套、中断屏蔽、中断向量等基本概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86/80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断系统中的中断源分类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BM-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中断系统结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握可编程中断控制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功能、内部结构、工作方式及初始化命令和操作命令的定义、使用方法，服务程序的基本编写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43560" y="1143000"/>
            <a:ext cx="103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8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服务程序框图与程序示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8080" y="685800"/>
          <a:ext cx="60264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60264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5.3  IBM-PC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机中断系统结构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1" action="ppaction://hlinksldjump"/>
              </a:rPr>
              <a:t>5.3.1  8086/8088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2" action="ppaction://hlinksldjump"/>
              </a:rPr>
              <a:t>CPU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3" action="ppaction://hlinksldjump"/>
              </a:rPr>
              <a:t>的中断结构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4" action="ppaction://hlinksldjump"/>
              </a:rPr>
              <a:t>5.3.2  8086/8088中断优先级别对中断源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5" action="ppaction://hlinksldjump"/>
              </a:rPr>
              <a:t>5.3.3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6" action="ppaction://hlinksldjump"/>
              </a:rPr>
              <a:t>IBM-PC/XT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7" action="ppaction://hlinksldjump"/>
              </a:rPr>
              <a:t>的中断控制逻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8" action="ppaction://hlinksldjump"/>
              </a:rPr>
              <a:t>5.3.4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9" action="ppaction://hlinksldjump"/>
              </a:rPr>
              <a:t>IBM-PC/AT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宋体"/>
                <a:hlinkClick r:id="rId10" action="ppaction://hlinksldjump"/>
              </a:rPr>
              <a:t>的中断控制逻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324480"/>
            <a:ext cx="18082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Arial"/>
              </a:rPr>
              <a:t>5.3.1  8086/8088CPU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的中断结构体系</a:t>
            </a:r>
            <a:endParaRPr b="1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57913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9  8086/80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中断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48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．内部中断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中断的特点是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是指令中指定的，或隐含的，或是预定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执行中断响应总线周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除单步中断外，其他内部中断的优先级都比外部中断的要高，都不能被屏蔽（禁止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步中断的优先级是所有中断里最低的，它可以用中断允许标志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屏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．外部硬件中断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非屏蔽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受中断允许标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影响，它总是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受的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屏蔽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是否响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请求，取决于中断允许标志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状态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．中断类型号和中断向量表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类型号：对每种中断都指定一个中断类型号代码，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每一个中断类型号都可以与一个中断服务程序相对应。中断服务程序存放在存储区域内，而中断服务程序的入口地址存在内存储器的中断向量表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向量表：是中断类型号与它相应的中断服务程序入口地址之间的转换表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243200" y="762120"/>
            <a:ext cx="60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10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断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8676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6858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BM  P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机的中断类型号的安排（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43000" y="1447920"/>
          <a:ext cx="6858000" cy="46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85800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762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BM  P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机的中断类型号的安排（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9480" y="1447920"/>
            <a:ext cx="7924680" cy="4571640"/>
            <a:chOff x="609480" y="1447920"/>
            <a:chExt cx="7924680" cy="4571640"/>
          </a:xfrm>
        </p:grpSpPr>
        <p:grpSp>
          <p:nvGrpSpPr>
            <p:cNvPr id="115" name=""/>
            <p:cNvGrpSpPr/>
            <p:nvPr/>
          </p:nvGrpSpPr>
          <p:grpSpPr>
            <a:xfrm>
              <a:off x="615240" y="1452600"/>
              <a:ext cx="7911000" cy="4561200"/>
              <a:chOff x="615240" y="1452600"/>
              <a:chExt cx="7911000" cy="456120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5240" y="1452600"/>
                <a:ext cx="1148760" cy="775440"/>
                <a:chOff x="615240" y="1452600"/>
                <a:chExt cx="1148760" cy="7754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04160" y="1452600"/>
                  <a:ext cx="97092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类型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15240" y="1452600"/>
                  <a:ext cx="1148760" cy="77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764360" y="1452600"/>
                <a:ext cx="1090800" cy="775440"/>
                <a:chOff x="1764360" y="1452600"/>
                <a:chExt cx="1090800" cy="7754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852920" y="1452600"/>
                  <a:ext cx="91368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地址（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764360" y="1452600"/>
                  <a:ext cx="1090800" cy="77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855520" y="1452600"/>
                <a:ext cx="1429920" cy="775440"/>
                <a:chOff x="2855520" y="1452600"/>
                <a:chExt cx="1429920" cy="775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944440" y="1452600"/>
                  <a:ext cx="125208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功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55520" y="1452600"/>
                  <a:ext cx="1429920" cy="77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286160" y="1452600"/>
                <a:ext cx="1156680" cy="775440"/>
                <a:chOff x="4286160" y="1452600"/>
                <a:chExt cx="1156680" cy="77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374720" y="1452600"/>
                  <a:ext cx="97920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类型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86160" y="1452600"/>
                  <a:ext cx="1156680" cy="77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443200" y="1452600"/>
                <a:ext cx="1163160" cy="775440"/>
                <a:chOff x="5443200" y="1452600"/>
                <a:chExt cx="1163160" cy="77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532120" y="1452600"/>
                  <a:ext cx="98532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地址（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443200" y="1452600"/>
                  <a:ext cx="1163160" cy="77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607080" y="1452600"/>
                <a:ext cx="1919160" cy="775440"/>
                <a:chOff x="6607080" y="1452600"/>
                <a:chExt cx="1919160" cy="775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695640" y="1452600"/>
                  <a:ext cx="174204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功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607080" y="1452600"/>
                  <a:ext cx="1919160" cy="77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15240" y="2228400"/>
                <a:ext cx="1148760" cy="630720"/>
                <a:chOff x="615240" y="2228400"/>
                <a:chExt cx="1148760" cy="630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04160" y="2228400"/>
                  <a:ext cx="97092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5240" y="2228400"/>
                  <a:ext cx="11487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764360" y="2228400"/>
                <a:ext cx="1090800" cy="630720"/>
                <a:chOff x="1764360" y="2228400"/>
                <a:chExt cx="1090800" cy="63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852920" y="2228400"/>
                  <a:ext cx="9136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80-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64360" y="2228400"/>
                  <a:ext cx="109080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855520" y="2228400"/>
                <a:ext cx="1429920" cy="630720"/>
                <a:chOff x="2855520" y="2228400"/>
                <a:chExt cx="1429920" cy="630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944440" y="2228400"/>
                  <a:ext cx="12520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程序结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55520" y="2228400"/>
                  <a:ext cx="142992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286160" y="2228400"/>
                <a:ext cx="1156680" cy="630720"/>
                <a:chOff x="4286160" y="2228400"/>
                <a:chExt cx="1156680" cy="630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374720" y="2228400"/>
                  <a:ext cx="97920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86160" y="2228400"/>
                  <a:ext cx="115668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443200" y="2228400"/>
                <a:ext cx="1163160" cy="630720"/>
                <a:chOff x="5443200" y="2228400"/>
                <a:chExt cx="1163160" cy="630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532120" y="2228400"/>
                  <a:ext cx="98532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98-9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43200" y="2228400"/>
                  <a:ext cx="11631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607080" y="2228400"/>
                <a:ext cx="1919160" cy="630720"/>
                <a:chOff x="6607080" y="2228400"/>
                <a:chExt cx="1919160" cy="630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695640" y="2228400"/>
                  <a:ext cx="17420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绝对磁盘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607080" y="2228400"/>
                  <a:ext cx="19191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15240" y="2859480"/>
                <a:ext cx="1148760" cy="630360"/>
                <a:chOff x="615240" y="2859480"/>
                <a:chExt cx="1148760" cy="6303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04160" y="2859480"/>
                  <a:ext cx="970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15240" y="2859480"/>
                  <a:ext cx="11487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764360" y="2859480"/>
                <a:ext cx="1090800" cy="630360"/>
                <a:chOff x="1764360" y="2859480"/>
                <a:chExt cx="1090800" cy="6303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852920" y="2859480"/>
                  <a:ext cx="913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84-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764360" y="2859480"/>
                  <a:ext cx="109080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855520" y="2859480"/>
                <a:ext cx="1429920" cy="630360"/>
                <a:chOff x="2855520" y="2859480"/>
                <a:chExt cx="1429920" cy="630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944440" y="2859480"/>
                  <a:ext cx="12520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DOS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系统调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55520" y="2859480"/>
                  <a:ext cx="1429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286160" y="2859480"/>
                <a:ext cx="1156680" cy="630360"/>
                <a:chOff x="4286160" y="2859480"/>
                <a:chExt cx="1156680" cy="6303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374720" y="2859480"/>
                  <a:ext cx="9792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286160" y="2859480"/>
                  <a:ext cx="115668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443200" y="2859480"/>
                <a:ext cx="1163160" cy="630360"/>
                <a:chOff x="5443200" y="2859480"/>
                <a:chExt cx="1163160" cy="630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32120" y="2859480"/>
                  <a:ext cx="9853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C-9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443200" y="2859480"/>
                  <a:ext cx="1163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607080" y="2859480"/>
                <a:ext cx="1919160" cy="630360"/>
                <a:chOff x="6607080" y="2859480"/>
                <a:chExt cx="1919160" cy="630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695640" y="2859480"/>
                  <a:ext cx="17420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程序结束，驻留内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607080" y="2859480"/>
                  <a:ext cx="1919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15240" y="3490560"/>
                <a:ext cx="1148760" cy="630360"/>
                <a:chOff x="615240" y="3490560"/>
                <a:chExt cx="1148760" cy="6303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04160" y="3490560"/>
                  <a:ext cx="970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15240" y="3490560"/>
                  <a:ext cx="11487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764360" y="3490560"/>
                <a:ext cx="1090800" cy="630360"/>
                <a:chOff x="1764360" y="3490560"/>
                <a:chExt cx="1090800" cy="630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852920" y="3490560"/>
                  <a:ext cx="913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88-8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64360" y="3490560"/>
                  <a:ext cx="109080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855520" y="3490560"/>
                <a:ext cx="1429920" cy="630360"/>
                <a:chOff x="2855520" y="3490560"/>
                <a:chExt cx="1429920" cy="630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944440" y="3490560"/>
                  <a:ext cx="12520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结束地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855520" y="3490560"/>
                  <a:ext cx="1429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286160" y="3490560"/>
                <a:ext cx="1156680" cy="630360"/>
                <a:chOff x="4286160" y="3490560"/>
                <a:chExt cx="1156680" cy="6303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374720" y="3490560"/>
                  <a:ext cx="9792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286160" y="3490560"/>
                  <a:ext cx="115668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43200" y="3490560"/>
                <a:ext cx="1163160" cy="630360"/>
                <a:chOff x="5443200" y="3490560"/>
                <a:chExt cx="1163160" cy="6303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32120" y="3490560"/>
                  <a:ext cx="9853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0-A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43200" y="3490560"/>
                  <a:ext cx="1163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607080" y="3490560"/>
                <a:ext cx="1919160" cy="630360"/>
                <a:chOff x="6607080" y="3490560"/>
                <a:chExt cx="1919160" cy="6303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695640" y="3490560"/>
                  <a:ext cx="17420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DOS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内部使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07080" y="3490560"/>
                  <a:ext cx="1919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15240" y="4121280"/>
                <a:ext cx="1148760" cy="630360"/>
                <a:chOff x="615240" y="4121280"/>
                <a:chExt cx="1148760" cy="6303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04160" y="4121280"/>
                  <a:ext cx="970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15240" y="4121280"/>
                  <a:ext cx="11487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764360" y="4121280"/>
                <a:ext cx="1090800" cy="630360"/>
                <a:chOff x="1764360" y="4121280"/>
                <a:chExt cx="1090800" cy="630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852920" y="4121280"/>
                  <a:ext cx="913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C-8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64360" y="4121280"/>
                  <a:ext cx="109080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855520" y="4121280"/>
                <a:ext cx="1429920" cy="630360"/>
                <a:chOff x="2855520" y="4121280"/>
                <a:chExt cx="1429920" cy="630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944440" y="4121280"/>
                  <a:ext cx="12520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中止处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55520" y="4121280"/>
                  <a:ext cx="1429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286160" y="4121280"/>
                <a:ext cx="1156680" cy="630360"/>
                <a:chOff x="4286160" y="4121280"/>
                <a:chExt cx="1156680" cy="63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374720" y="4121280"/>
                  <a:ext cx="9792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286160" y="4121280"/>
                  <a:ext cx="115668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443200" y="4121280"/>
                <a:ext cx="1163160" cy="630360"/>
                <a:chOff x="5443200" y="4121280"/>
                <a:chExt cx="1163160" cy="630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2120" y="4121280"/>
                  <a:ext cx="9853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4-B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3200" y="4121280"/>
                  <a:ext cx="1163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607080" y="4121280"/>
                <a:ext cx="1919160" cy="630360"/>
                <a:chOff x="6607080" y="4121280"/>
                <a:chExt cx="1919160" cy="630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695640" y="4121280"/>
                  <a:ext cx="17420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DOS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保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07080" y="4121280"/>
                  <a:ext cx="1919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15240" y="4752360"/>
                <a:ext cx="1148760" cy="630720"/>
                <a:chOff x="615240" y="4752360"/>
                <a:chExt cx="1148760" cy="6307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4160" y="4752360"/>
                  <a:ext cx="97092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15240" y="4752360"/>
                  <a:ext cx="11487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764360" y="4752360"/>
                <a:ext cx="1090800" cy="630720"/>
                <a:chOff x="1764360" y="4752360"/>
                <a:chExt cx="1090800" cy="6307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852920" y="4752360"/>
                  <a:ext cx="9136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90-9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764360" y="4752360"/>
                  <a:ext cx="109080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855520" y="4752360"/>
                <a:ext cx="1429920" cy="630720"/>
                <a:chOff x="2855520" y="4752360"/>
                <a:chExt cx="1429920" cy="6307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44440" y="4752360"/>
                  <a:ext cx="12520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错误处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855520" y="4752360"/>
                  <a:ext cx="142992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286160" y="4752360"/>
                <a:ext cx="1156680" cy="630720"/>
                <a:chOff x="4286160" y="4752360"/>
                <a:chExt cx="1156680" cy="6307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374720" y="4752360"/>
                  <a:ext cx="97920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286160" y="4752360"/>
                  <a:ext cx="115668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443200" y="4752360"/>
                <a:ext cx="1163160" cy="630720"/>
                <a:chOff x="5443200" y="4752360"/>
                <a:chExt cx="1163160" cy="6307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32120" y="4752360"/>
                  <a:ext cx="98532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C-B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43200" y="4752360"/>
                  <a:ext cx="11631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607080" y="4752360"/>
                <a:ext cx="1919160" cy="630720"/>
                <a:chOff x="6607080" y="4752360"/>
                <a:chExt cx="1919160" cy="6307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695640" y="4752360"/>
                  <a:ext cx="17420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DOS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内部使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607080" y="4752360"/>
                  <a:ext cx="19191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15240" y="5383440"/>
                <a:ext cx="1148760" cy="630360"/>
                <a:chOff x="615240" y="5383440"/>
                <a:chExt cx="1148760" cy="63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04160" y="5383440"/>
                  <a:ext cx="970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5240" y="5383440"/>
                  <a:ext cx="11487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764360" y="5383440"/>
                <a:ext cx="1090800" cy="630360"/>
                <a:chOff x="1764360" y="5383440"/>
                <a:chExt cx="1090800" cy="6303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852920" y="5383440"/>
                  <a:ext cx="913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94-9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764360" y="5383440"/>
                  <a:ext cx="109080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855520" y="5383440"/>
                <a:ext cx="1429920" cy="630360"/>
                <a:chOff x="2855520" y="5383440"/>
                <a:chExt cx="1429920" cy="630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944440" y="5383440"/>
                  <a:ext cx="12520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绝对磁盘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55520" y="5383440"/>
                  <a:ext cx="1429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286160" y="5383440"/>
                <a:ext cx="1156680" cy="630360"/>
                <a:chOff x="4286160" y="5383440"/>
                <a:chExt cx="1156680" cy="630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374720" y="5383440"/>
                  <a:ext cx="9792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3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6160" y="5383440"/>
                  <a:ext cx="115668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443200" y="5383440"/>
                <a:ext cx="1163160" cy="630360"/>
                <a:chOff x="5443200" y="5383440"/>
                <a:chExt cx="1163160" cy="630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532120" y="5383440"/>
                  <a:ext cx="9853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0-F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43200" y="5383440"/>
                  <a:ext cx="1163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607080" y="5383440"/>
                <a:ext cx="1919160" cy="630360"/>
                <a:chOff x="6607080" y="5383440"/>
                <a:chExt cx="1919160" cy="630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695640" y="5383440"/>
                  <a:ext cx="17420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DOS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保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607080" y="5383440"/>
                  <a:ext cx="19191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09480" y="1447920"/>
              <a:ext cx="792468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．中断向量表的初始化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一：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功能调用。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 2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功能调用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二：将中断服务程序的入口地址直接装入中断向量表中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5.1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中断系统基本概念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5.1.1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" action="ppaction://hlinksldjump"/>
              </a:rPr>
              <a:t>中断系统的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3" action="ppaction://hlinksldjump"/>
              </a:rPr>
              <a:t>5.1.2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4" action="ppaction://hlinksldjump"/>
              </a:rPr>
              <a:t>中断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6324480"/>
            <a:ext cx="17319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3.2  8086/8088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优先级别对中断源的管理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优先级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2514600"/>
            <a:ext cx="6933960" cy="3123720"/>
            <a:chOff x="1066680" y="2514600"/>
            <a:chExt cx="6933960" cy="3123720"/>
          </a:xfrm>
        </p:grpSpPr>
        <p:grpSp>
          <p:nvGrpSpPr>
            <p:cNvPr id="249" name=""/>
            <p:cNvGrpSpPr/>
            <p:nvPr/>
          </p:nvGrpSpPr>
          <p:grpSpPr>
            <a:xfrm>
              <a:off x="1073880" y="2519280"/>
              <a:ext cx="6917760" cy="3113280"/>
              <a:chOff x="1073880" y="2519280"/>
              <a:chExt cx="6917760" cy="31132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073880" y="2519280"/>
                <a:ext cx="3654720" cy="622080"/>
                <a:chOff x="1073880" y="2519280"/>
                <a:chExt cx="3654720" cy="6220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183320" y="2519280"/>
                  <a:ext cx="343512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源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73880" y="2519280"/>
                  <a:ext cx="36547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728960" y="2519280"/>
                <a:ext cx="3262680" cy="622080"/>
                <a:chOff x="4728960" y="2519280"/>
                <a:chExt cx="3262680" cy="6220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838400" y="2519280"/>
                  <a:ext cx="30430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优先级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28960" y="2519280"/>
                  <a:ext cx="326268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073880" y="3141720"/>
                <a:ext cx="3654720" cy="622080"/>
                <a:chOff x="1073880" y="3141720"/>
                <a:chExt cx="3654720" cy="6220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83320" y="3141720"/>
                  <a:ext cx="343512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除法错、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INT n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INT 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073880" y="3141720"/>
                  <a:ext cx="36547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728960" y="3141720"/>
                <a:ext cx="3262680" cy="622080"/>
                <a:chOff x="4728960" y="3141720"/>
                <a:chExt cx="3262680" cy="6220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838400" y="3141720"/>
                  <a:ext cx="30430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最高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728960" y="3141720"/>
                  <a:ext cx="326268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073880" y="3764520"/>
                <a:ext cx="3654720" cy="622440"/>
                <a:chOff x="1073880" y="3764520"/>
                <a:chExt cx="3654720" cy="622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183320" y="3764520"/>
                  <a:ext cx="343512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M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073880" y="3764520"/>
                  <a:ext cx="3654720" cy="62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728960" y="3764520"/>
                <a:ext cx="3262680" cy="622440"/>
                <a:chOff x="4728960" y="3764520"/>
                <a:chExt cx="3262680" cy="6224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838400" y="3764520"/>
                  <a:ext cx="304308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↑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728960" y="3764520"/>
                  <a:ext cx="3262680" cy="62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073880" y="4387680"/>
                <a:ext cx="3654720" cy="622080"/>
                <a:chOff x="1073880" y="4387680"/>
                <a:chExt cx="3654720" cy="6220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183320" y="4387680"/>
                  <a:ext cx="343512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T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073880" y="4387680"/>
                  <a:ext cx="36547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728960" y="4387680"/>
                <a:ext cx="3262680" cy="622080"/>
                <a:chOff x="4728960" y="4387680"/>
                <a:chExt cx="3262680" cy="6220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838400" y="4387680"/>
                  <a:ext cx="30430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∣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28960" y="4387680"/>
                  <a:ext cx="326268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073880" y="5010480"/>
                <a:ext cx="3654720" cy="622080"/>
                <a:chOff x="1073880" y="5010480"/>
                <a:chExt cx="3654720" cy="6220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183320" y="5010480"/>
                  <a:ext cx="343512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单步（陷阱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073880" y="5010480"/>
                  <a:ext cx="36547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728960" y="5010480"/>
                <a:ext cx="3262680" cy="622080"/>
                <a:chOff x="4728960" y="5010480"/>
                <a:chExt cx="3262680" cy="6220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838400" y="5010480"/>
                  <a:ext cx="30430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最低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28960" y="5010480"/>
                  <a:ext cx="326268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1066680" y="2514600"/>
              <a:ext cx="6933960" cy="3123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743200" y="5791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3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断优先级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86/80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中断源的采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几条指令是在紧跟其后的一条指令也被执行完才去采样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段寄存器的装入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86/80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断处理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中断类型码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指向中断向量表中的中断处理子程序的入口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状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清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状态标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存原来执行的主程序的中断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转中断处理子程序入口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执行中断处理子程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返回到被中断了的主程序的断点继续执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08960" y="762120"/>
            <a:ext cx="546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处理过程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685800"/>
          <a:ext cx="626436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626436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3.3  IBM-PC/XT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的中断控制逻辑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内部中断源：除法错引起的中断、溢出引起的中断、执行中断指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包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点中断）引起的中断以及单步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非屏蔽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系统板上存储器奇偶校验错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道中的插件奇偶校验错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8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屏蔽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外部设备请求中断时，是通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脚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88 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屏蔽中断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447920" y="5715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控制逻辑电路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47920" y="685800"/>
          <a:ext cx="630072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85800"/>
                    <a:ext cx="630072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295280" y="752400"/>
            <a:ext cx="5119560" cy="5343480"/>
            <a:chOff x="1295280" y="752400"/>
            <a:chExt cx="5119560" cy="5343480"/>
          </a:xfrm>
        </p:grpSpPr>
        <p:grpSp>
          <p:nvGrpSpPr>
            <p:cNvPr id="294" name=""/>
            <p:cNvGrpSpPr/>
            <p:nvPr/>
          </p:nvGrpSpPr>
          <p:grpSpPr>
            <a:xfrm>
              <a:off x="1301760" y="756720"/>
              <a:ext cx="5105520" cy="5333760"/>
              <a:chOff x="1301760" y="756720"/>
              <a:chExt cx="5105520" cy="53337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301760" y="756720"/>
                <a:ext cx="1386360" cy="592560"/>
                <a:chOff x="1301760" y="756720"/>
                <a:chExt cx="1386360" cy="5925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396440" y="75672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259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输入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01760" y="75672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88480" y="756720"/>
                <a:ext cx="1373040" cy="592560"/>
                <a:chOff x="2688480" y="756720"/>
                <a:chExt cx="1373040" cy="592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782800" y="75672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类型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688480" y="75672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061880" y="756720"/>
                <a:ext cx="2345400" cy="592560"/>
                <a:chOff x="4061880" y="756720"/>
                <a:chExt cx="2345400" cy="5925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156560" y="75672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中断源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061880" y="75672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301760" y="1349280"/>
                <a:ext cx="1386360" cy="592560"/>
                <a:chOff x="1301760" y="1349280"/>
                <a:chExt cx="1386360" cy="5925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396440" y="134928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301760" y="134928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688480" y="1349280"/>
                <a:ext cx="1373040" cy="592560"/>
                <a:chOff x="2688480" y="1349280"/>
                <a:chExt cx="1373040" cy="5925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782800" y="134928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88480" y="134928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061880" y="1349280"/>
                <a:ext cx="2345400" cy="592560"/>
                <a:chOff x="4061880" y="1349280"/>
                <a:chExt cx="2345400" cy="5925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56560" y="134928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电子钟时间基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61880" y="134928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301760" y="1941840"/>
                <a:ext cx="1386360" cy="592920"/>
                <a:chOff x="1301760" y="1941840"/>
                <a:chExt cx="1386360" cy="5929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396440" y="1941840"/>
                  <a:ext cx="1196280" cy="59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301760" y="1941840"/>
                  <a:ext cx="1386360" cy="59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688480" y="1941840"/>
                <a:ext cx="1373040" cy="592920"/>
                <a:chOff x="2688480" y="1941840"/>
                <a:chExt cx="1373040" cy="5929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782800" y="1941840"/>
                  <a:ext cx="1183680" cy="59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0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688480" y="1941840"/>
                  <a:ext cx="1373040" cy="59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061880" y="1941840"/>
                <a:ext cx="2345400" cy="592920"/>
                <a:chOff x="4061880" y="1941840"/>
                <a:chExt cx="2345400" cy="5929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156560" y="1941840"/>
                  <a:ext cx="2155320" cy="59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键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061880" y="1941840"/>
                  <a:ext cx="2345400" cy="59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301760" y="2534760"/>
                <a:ext cx="1386360" cy="592560"/>
                <a:chOff x="1301760" y="2534760"/>
                <a:chExt cx="1386360" cy="5925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396440" y="253476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301760" y="253476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688480" y="2534760"/>
                <a:ext cx="1373040" cy="592560"/>
                <a:chOff x="2688480" y="2534760"/>
                <a:chExt cx="1373040" cy="5925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782800" y="253476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688480" y="253476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061880" y="2534760"/>
                <a:ext cx="2345400" cy="592560"/>
                <a:chOff x="4061880" y="2534760"/>
                <a:chExt cx="2345400" cy="5925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156560" y="253476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为用户保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061880" y="253476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301760" y="3127320"/>
                <a:ext cx="1386360" cy="592560"/>
                <a:chOff x="1301760" y="3127320"/>
                <a:chExt cx="1386360" cy="592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396440" y="312732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301760" y="312732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688480" y="3127320"/>
                <a:ext cx="1373040" cy="592560"/>
                <a:chOff x="2688480" y="3127320"/>
                <a:chExt cx="1373040" cy="5925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782800" y="312732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688480" y="312732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061880" y="3127320"/>
                <a:ext cx="2345400" cy="592560"/>
                <a:chOff x="4061880" y="3127320"/>
                <a:chExt cx="2345400" cy="5925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156560" y="312732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异步通信：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61880" y="312732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301760" y="3719880"/>
                <a:ext cx="1386360" cy="592560"/>
                <a:chOff x="1301760" y="3719880"/>
                <a:chExt cx="1386360" cy="5925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96440" y="371988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301760" y="371988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688480" y="3719880"/>
                <a:ext cx="1373040" cy="592560"/>
                <a:chOff x="2688480" y="3719880"/>
                <a:chExt cx="1373040" cy="592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782800" y="371988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688480" y="371988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061880" y="3719880"/>
                <a:ext cx="2345400" cy="592560"/>
                <a:chOff x="4061880" y="3719880"/>
                <a:chExt cx="2345400" cy="5925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156560" y="371988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异步通信：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061880" y="371988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301760" y="4312440"/>
                <a:ext cx="1386360" cy="592920"/>
                <a:chOff x="1301760" y="4312440"/>
                <a:chExt cx="1386360" cy="5929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396440" y="4312440"/>
                  <a:ext cx="1196280" cy="59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301760" y="4312440"/>
                  <a:ext cx="1386360" cy="59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688480" y="4312440"/>
                <a:ext cx="1373040" cy="592920"/>
                <a:chOff x="2688480" y="4312440"/>
                <a:chExt cx="1373040" cy="592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782800" y="4312440"/>
                  <a:ext cx="1183680" cy="59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688480" y="4312440"/>
                  <a:ext cx="1373040" cy="59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061880" y="4312440"/>
                <a:ext cx="2345400" cy="592920"/>
                <a:chOff x="4061880" y="4312440"/>
                <a:chExt cx="2345400" cy="5929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156560" y="4312440"/>
                  <a:ext cx="2155320" cy="59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硬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061880" y="4312440"/>
                  <a:ext cx="2345400" cy="59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301760" y="4905360"/>
                <a:ext cx="1386360" cy="592560"/>
                <a:chOff x="1301760" y="4905360"/>
                <a:chExt cx="1386360" cy="5925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396440" y="490536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01760" y="490536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688480" y="4905360"/>
                <a:ext cx="1373040" cy="592560"/>
                <a:chOff x="2688480" y="4905360"/>
                <a:chExt cx="1373040" cy="5925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82800" y="490536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88480" y="490536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061880" y="4905360"/>
                <a:ext cx="2345400" cy="592560"/>
                <a:chOff x="4061880" y="4905360"/>
                <a:chExt cx="2345400" cy="592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156560" y="490536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软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61880" y="490536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301760" y="5497920"/>
                <a:ext cx="1386360" cy="592560"/>
                <a:chOff x="1301760" y="5497920"/>
                <a:chExt cx="1386360" cy="592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396440" y="5497920"/>
                  <a:ext cx="11962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RQ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301760" y="5497920"/>
                  <a:ext cx="138636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688480" y="5497920"/>
                <a:ext cx="1373040" cy="592560"/>
                <a:chOff x="2688480" y="5497920"/>
                <a:chExt cx="1373040" cy="592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782800" y="5497920"/>
                  <a:ext cx="118368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88480" y="5497920"/>
                  <a:ext cx="137304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061880" y="5497920"/>
                <a:ext cx="2345400" cy="592560"/>
                <a:chOff x="4061880" y="5497920"/>
                <a:chExt cx="2345400" cy="5925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156560" y="5497920"/>
                  <a:ext cx="2155320" cy="59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并行打印机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061880" y="5497920"/>
                  <a:ext cx="2345400" cy="59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" name=""/>
            <p:cNvSpPr/>
            <p:nvPr/>
          </p:nvSpPr>
          <p:spPr>
            <a:xfrm>
              <a:off x="1295280" y="752400"/>
              <a:ext cx="5119560" cy="5343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119720" y="838080"/>
            <a:ext cx="10335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4  IBM PC/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机中断源和中断类型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3.4  IBM-PC/AT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的中断控制逻辑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BM PC/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的中断管理着三类中断源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内部中断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非屏蔽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屏蔽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71600" y="5867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13  PC/A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机两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2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级联硬件连接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523880" y="762120"/>
          <a:ext cx="6400800" cy="49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6400800" cy="49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4300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5  IBM PC/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机中断源和中断类型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38080" y="1143000"/>
          <a:ext cx="744408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44408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5.1.1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系统的作用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95480" y="259056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分时处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故障处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实时处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5.4  Intel 8259A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可编程中断控制器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5.4.1  8259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2" action="ppaction://hlinksldjump"/>
              </a:rPr>
              <a:t>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3" action="ppaction://hlinksldjump"/>
              </a:rPr>
              <a:t>的框图和引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4" action="ppaction://hlinksldjump"/>
              </a:rPr>
              <a:t>5.4.2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5" action="ppaction://hlinksldjump"/>
              </a:rPr>
              <a:t>中断触发方式和中断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6" action="ppaction://hlinksldjump"/>
              </a:rPr>
              <a:t>5.4.3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7" action="ppaction://hlinksldjump"/>
              </a:rPr>
              <a:t>工作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8" action="ppaction://hlinksldjump"/>
              </a:rPr>
              <a:t>5.4.4  屏蔽中断源的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9" action="ppaction://hlinksldjump"/>
              </a:rPr>
              <a:t>5.4.5  结束中断处理的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0" action="ppaction://hlinksldjump"/>
              </a:rPr>
              <a:t>5.4.6  中断级联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1" action="ppaction://hlinksldjump"/>
              </a:rPr>
              <a:t>5.4.7  8259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2" action="ppaction://hlinksldjump"/>
              </a:rPr>
              <a:t>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3" action="ppaction://hlinksldjump"/>
              </a:rPr>
              <a:t>初始化命令字和操作方式命令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6324480"/>
            <a:ext cx="18082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5.4.1  8259A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的框图和引脚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功能及工作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构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的主从式中断系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每一级中断都可以屏蔽或允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提供相应的中断向量，从而能迅速地转至中断服务程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通过编程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作在多种不同的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时只需要一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5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19160" y="4568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结构框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5715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14  8259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方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838080" y="1219320"/>
          <a:ext cx="746784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46784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64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3000"/>
          </a:bodyPr>
          <a:p>
            <a:pPr marL="28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引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590920" y="533520"/>
          <a:ext cx="36939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33520"/>
                    <a:ext cx="36939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7241760" y="91440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15  8259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引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工作原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个负脉冲到达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到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R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锁存功能失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当前中断服务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S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相应位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R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中的相应位清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个负脉冲到达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成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将中断类型寄存器中的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CW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送到数据总线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此作为中断类型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第二个脉冲结束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将第一个脉冲到来时设置的当前中断服务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S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相应位清零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寄存器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端口的识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57150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6  8259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写操作及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85800" y="1219320"/>
            <a:ext cx="7899120" cy="4360320"/>
            <a:chOff x="685800" y="1219320"/>
            <a:chExt cx="7899120" cy="4360320"/>
          </a:xfrm>
        </p:grpSpPr>
        <p:grpSp>
          <p:nvGrpSpPr>
            <p:cNvPr id="405" name=""/>
            <p:cNvGrpSpPr/>
            <p:nvPr/>
          </p:nvGrpSpPr>
          <p:grpSpPr>
            <a:xfrm>
              <a:off x="691560" y="1224000"/>
              <a:ext cx="7885800" cy="4350240"/>
              <a:chOff x="691560" y="1224000"/>
              <a:chExt cx="7885800" cy="435024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691560" y="1224000"/>
                <a:ext cx="738000" cy="739440"/>
                <a:chOff x="691560" y="1224000"/>
                <a:chExt cx="738000" cy="7394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80840" y="1224000"/>
                  <a:ext cx="5594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1560" y="1224000"/>
                  <a:ext cx="738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429920" y="1224000"/>
                <a:ext cx="617400" cy="739440"/>
                <a:chOff x="1429920" y="1224000"/>
                <a:chExt cx="617400" cy="739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18480" y="1224000"/>
                  <a:ext cx="439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429920" y="1224000"/>
                  <a:ext cx="6174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048040" y="1224000"/>
                <a:ext cx="638280" cy="739440"/>
                <a:chOff x="2048040" y="1224000"/>
                <a:chExt cx="638280" cy="7394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137320" y="1224000"/>
                  <a:ext cx="460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48040" y="1224000"/>
                  <a:ext cx="63828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686680" y="1224000"/>
                <a:ext cx="576000" cy="739440"/>
                <a:chOff x="2686680" y="1224000"/>
                <a:chExt cx="576000" cy="7394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775960" y="1224000"/>
                  <a:ext cx="3974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686680" y="1224000"/>
                  <a:ext cx="576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263400" y="1224000"/>
                <a:ext cx="2592360" cy="739440"/>
                <a:chOff x="3263400" y="1224000"/>
                <a:chExt cx="2592360" cy="739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352680" y="1224000"/>
                  <a:ext cx="2414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63400" y="1224000"/>
                  <a:ext cx="25923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856480" y="1224000"/>
                <a:ext cx="1310400" cy="739440"/>
                <a:chOff x="5856480" y="1224000"/>
                <a:chExt cx="1310400" cy="7394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945760" y="1224000"/>
                  <a:ext cx="1132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259A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端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856480" y="1224000"/>
                  <a:ext cx="13104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167240" y="1224000"/>
                <a:ext cx="1410120" cy="739440"/>
                <a:chOff x="7167240" y="1224000"/>
                <a:chExt cx="1410120" cy="7394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256520" y="1224000"/>
                  <a:ext cx="12315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C/XT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机端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67240" y="1224000"/>
                  <a:ext cx="141012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91560" y="1963800"/>
                <a:ext cx="738000" cy="601560"/>
                <a:chOff x="691560" y="1963800"/>
                <a:chExt cx="738000" cy="601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80840" y="1963800"/>
                  <a:ext cx="5594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1560" y="1963800"/>
                  <a:ext cx="738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429920" y="1963800"/>
                <a:ext cx="617400" cy="601560"/>
                <a:chOff x="1429920" y="1963800"/>
                <a:chExt cx="617400" cy="6015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518480" y="1963800"/>
                  <a:ext cx="4392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429920" y="1963800"/>
                  <a:ext cx="6174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048040" y="1963800"/>
                <a:ext cx="638280" cy="601560"/>
                <a:chOff x="2048040" y="1963800"/>
                <a:chExt cx="638280" cy="6015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137320" y="1963800"/>
                  <a:ext cx="4600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048040" y="1963800"/>
                  <a:ext cx="6382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86680" y="1963800"/>
                <a:ext cx="576000" cy="601560"/>
                <a:chOff x="2686680" y="1963800"/>
                <a:chExt cx="576000" cy="6015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775960" y="1963800"/>
                  <a:ext cx="3974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86680" y="1963800"/>
                  <a:ext cx="576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263400" y="1963800"/>
                <a:ext cx="2592360" cy="601560"/>
                <a:chOff x="3263400" y="1963800"/>
                <a:chExt cx="2592360" cy="6015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352680" y="1963800"/>
                  <a:ext cx="24141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读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S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263400" y="1963800"/>
                  <a:ext cx="259236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856480" y="1963800"/>
                <a:ext cx="1310400" cy="601560"/>
                <a:chOff x="5856480" y="1963800"/>
                <a:chExt cx="1310400" cy="6015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945760" y="1963800"/>
                  <a:ext cx="11322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偶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56480" y="1963800"/>
                  <a:ext cx="13104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167240" y="1963800"/>
                <a:ext cx="1410120" cy="601560"/>
                <a:chOff x="7167240" y="1963800"/>
                <a:chExt cx="1410120" cy="6015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7256520" y="1963800"/>
                  <a:ext cx="123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0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167240" y="1963800"/>
                  <a:ext cx="14101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91560" y="2565720"/>
                <a:ext cx="738000" cy="601200"/>
                <a:chOff x="691560" y="2565720"/>
                <a:chExt cx="738000" cy="6012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80840" y="2565720"/>
                  <a:ext cx="559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1560" y="2565720"/>
                  <a:ext cx="738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429920" y="2565720"/>
                <a:ext cx="617400" cy="601200"/>
                <a:chOff x="1429920" y="2565720"/>
                <a:chExt cx="617400" cy="601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18480" y="2565720"/>
                  <a:ext cx="439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429920" y="2565720"/>
                  <a:ext cx="617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048040" y="2565720"/>
                <a:ext cx="638280" cy="601200"/>
                <a:chOff x="2048040" y="2565720"/>
                <a:chExt cx="638280" cy="6012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137320" y="2565720"/>
                  <a:ext cx="46008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048040" y="2565720"/>
                  <a:ext cx="63828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2686680" y="2565720"/>
                <a:ext cx="576000" cy="601200"/>
                <a:chOff x="2686680" y="2565720"/>
                <a:chExt cx="576000" cy="601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2775960" y="2565720"/>
                  <a:ext cx="397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686680" y="2565720"/>
                  <a:ext cx="576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3263400" y="2565720"/>
                <a:ext cx="2592360" cy="601200"/>
                <a:chOff x="3263400" y="2565720"/>
                <a:chExt cx="2592360" cy="6012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352680" y="2565720"/>
                  <a:ext cx="24141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读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M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263400" y="2565720"/>
                  <a:ext cx="259236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856480" y="2565720"/>
                <a:ext cx="1310400" cy="601200"/>
                <a:chOff x="5856480" y="2565720"/>
                <a:chExt cx="1310400" cy="601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945760" y="2565720"/>
                  <a:ext cx="1132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奇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856480" y="2565720"/>
                  <a:ext cx="1310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7167240" y="2565720"/>
                <a:ext cx="1410120" cy="601200"/>
                <a:chOff x="7167240" y="2565720"/>
                <a:chExt cx="1410120" cy="6012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7256520" y="2565720"/>
                  <a:ext cx="1231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1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167240" y="2565720"/>
                  <a:ext cx="14101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91560" y="3167640"/>
                <a:ext cx="738000" cy="601200"/>
                <a:chOff x="691560" y="3167640"/>
                <a:chExt cx="738000" cy="6012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80840" y="3167640"/>
                  <a:ext cx="559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91560" y="3167640"/>
                  <a:ext cx="738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1429920" y="3167640"/>
                <a:ext cx="617400" cy="601200"/>
                <a:chOff x="1429920" y="3167640"/>
                <a:chExt cx="617400" cy="6012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1518480" y="3167640"/>
                  <a:ext cx="439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429920" y="3167640"/>
                  <a:ext cx="617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048040" y="3167640"/>
                <a:ext cx="638280" cy="601200"/>
                <a:chOff x="2048040" y="3167640"/>
                <a:chExt cx="638280" cy="6012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137320" y="3167640"/>
                  <a:ext cx="46008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48040" y="3167640"/>
                  <a:ext cx="63828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686680" y="3167640"/>
                <a:ext cx="576000" cy="601200"/>
                <a:chOff x="2686680" y="3167640"/>
                <a:chExt cx="576000" cy="601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775960" y="3167640"/>
                  <a:ext cx="397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686680" y="3167640"/>
                  <a:ext cx="576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3400" y="3167640"/>
                <a:ext cx="2592360" cy="601200"/>
                <a:chOff x="3263400" y="3167640"/>
                <a:chExt cx="2592360" cy="6012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52680" y="3167640"/>
                  <a:ext cx="24141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CW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CW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CW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3400" y="3167640"/>
                  <a:ext cx="259236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856480" y="3167640"/>
                <a:ext cx="1310400" cy="601200"/>
                <a:chOff x="5856480" y="3167640"/>
                <a:chExt cx="1310400" cy="6012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45760" y="3167640"/>
                  <a:ext cx="1132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偶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856480" y="3167640"/>
                  <a:ext cx="1310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7167240" y="3167640"/>
                <a:ext cx="1410120" cy="601200"/>
                <a:chOff x="7167240" y="3167640"/>
                <a:chExt cx="1410120" cy="6012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256520" y="3167640"/>
                  <a:ext cx="1231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0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167240" y="3167640"/>
                  <a:ext cx="14101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91560" y="3769200"/>
                <a:ext cx="738000" cy="601200"/>
                <a:chOff x="691560" y="3769200"/>
                <a:chExt cx="738000" cy="601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80840" y="3769200"/>
                  <a:ext cx="559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91560" y="3769200"/>
                  <a:ext cx="738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429920" y="3769200"/>
                <a:ext cx="617400" cy="601200"/>
                <a:chOff x="1429920" y="3769200"/>
                <a:chExt cx="617400" cy="6012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518480" y="3769200"/>
                  <a:ext cx="439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429920" y="3769200"/>
                  <a:ext cx="617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048040" y="3769200"/>
                <a:ext cx="638280" cy="601200"/>
                <a:chOff x="2048040" y="3769200"/>
                <a:chExt cx="638280" cy="601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137320" y="3769200"/>
                  <a:ext cx="46008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048040" y="3769200"/>
                  <a:ext cx="63828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2686680" y="3769200"/>
                <a:ext cx="576000" cy="601200"/>
                <a:chOff x="2686680" y="3769200"/>
                <a:chExt cx="576000" cy="6012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775960" y="3769200"/>
                  <a:ext cx="397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686680" y="3769200"/>
                  <a:ext cx="576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3263400" y="3769200"/>
                <a:ext cx="2592360" cy="601200"/>
                <a:chOff x="3263400" y="3769200"/>
                <a:chExt cx="2592360" cy="6012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352680" y="3769200"/>
                  <a:ext cx="24141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CW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CW3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CW4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CW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63400" y="3769200"/>
                  <a:ext cx="259236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856480" y="3769200"/>
                <a:ext cx="1310400" cy="601200"/>
                <a:chOff x="5856480" y="3769200"/>
                <a:chExt cx="1310400" cy="6012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945760" y="3769200"/>
                  <a:ext cx="1132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奇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56480" y="3769200"/>
                  <a:ext cx="1310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167240" y="3769200"/>
                <a:ext cx="1410120" cy="601200"/>
                <a:chOff x="7167240" y="3769200"/>
                <a:chExt cx="1410120" cy="601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7256520" y="3769200"/>
                  <a:ext cx="1231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1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167240" y="3769200"/>
                  <a:ext cx="14101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91560" y="4371120"/>
                <a:ext cx="738000" cy="601560"/>
                <a:chOff x="691560" y="4371120"/>
                <a:chExt cx="738000" cy="6015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80840" y="4371120"/>
                  <a:ext cx="5594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91560" y="4371120"/>
                  <a:ext cx="738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429920" y="4371120"/>
                <a:ext cx="617400" cy="601560"/>
                <a:chOff x="1429920" y="4371120"/>
                <a:chExt cx="617400" cy="6015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518480" y="4371120"/>
                  <a:ext cx="4392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429920" y="4371120"/>
                  <a:ext cx="6174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048040" y="4371120"/>
                <a:ext cx="638280" cy="601560"/>
                <a:chOff x="2048040" y="4371120"/>
                <a:chExt cx="638280" cy="601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137320" y="4371120"/>
                  <a:ext cx="4600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048040" y="4371120"/>
                  <a:ext cx="6382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2686680" y="4371120"/>
                <a:ext cx="576000" cy="601560"/>
                <a:chOff x="2686680" y="4371120"/>
                <a:chExt cx="576000" cy="6015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775960" y="4371120"/>
                  <a:ext cx="3974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86680" y="4371120"/>
                  <a:ext cx="576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263400" y="4371120"/>
                <a:ext cx="2592360" cy="601560"/>
                <a:chOff x="3263400" y="4371120"/>
                <a:chExt cx="2592360" cy="601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352680" y="4371120"/>
                  <a:ext cx="24141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无操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263400" y="4371120"/>
                  <a:ext cx="259236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5856480" y="4371120"/>
                <a:ext cx="1310400" cy="601560"/>
                <a:chOff x="5856480" y="4371120"/>
                <a:chExt cx="1310400" cy="6015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5945760" y="4371120"/>
                  <a:ext cx="11322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856480" y="4371120"/>
                  <a:ext cx="13104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7167240" y="4371120"/>
                <a:ext cx="1410120" cy="601560"/>
                <a:chOff x="7167240" y="4371120"/>
                <a:chExt cx="1410120" cy="6015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256520" y="4371120"/>
                  <a:ext cx="123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167240" y="4371120"/>
                  <a:ext cx="14101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91560" y="4973040"/>
                <a:ext cx="738000" cy="601200"/>
                <a:chOff x="691560" y="4973040"/>
                <a:chExt cx="738000" cy="6012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80840" y="4973040"/>
                  <a:ext cx="559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1560" y="4973040"/>
                  <a:ext cx="738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1429920" y="4973040"/>
                <a:ext cx="617400" cy="601200"/>
                <a:chOff x="1429920" y="4973040"/>
                <a:chExt cx="617400" cy="601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518480" y="4973040"/>
                  <a:ext cx="439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429920" y="4973040"/>
                  <a:ext cx="617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2048040" y="4973040"/>
                <a:ext cx="638280" cy="601200"/>
                <a:chOff x="2048040" y="4973040"/>
                <a:chExt cx="638280" cy="6012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137320" y="4973040"/>
                  <a:ext cx="46008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48040" y="4973040"/>
                  <a:ext cx="63828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2686680" y="4973040"/>
                <a:ext cx="576000" cy="601200"/>
                <a:chOff x="2686680" y="4973040"/>
                <a:chExt cx="576000" cy="6012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2775960" y="4973040"/>
                  <a:ext cx="39744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86680" y="4973040"/>
                  <a:ext cx="576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263400" y="4973040"/>
                <a:ext cx="2592360" cy="601200"/>
                <a:chOff x="3263400" y="4973040"/>
                <a:chExt cx="2592360" cy="6012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352680" y="4973040"/>
                  <a:ext cx="24141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无操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63400" y="4973040"/>
                  <a:ext cx="259236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856480" y="4973040"/>
                <a:ext cx="1310400" cy="601200"/>
                <a:chOff x="5856480" y="4973040"/>
                <a:chExt cx="1310400" cy="6012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5945760" y="4973040"/>
                  <a:ext cx="113220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856480" y="4973040"/>
                  <a:ext cx="13104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167240" y="4973040"/>
                <a:ext cx="1410120" cy="601200"/>
                <a:chOff x="7167240" y="4973040"/>
                <a:chExt cx="1410120" cy="601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7256520" y="4973040"/>
                  <a:ext cx="1231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167240" y="4973040"/>
                  <a:ext cx="14101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3" name=""/>
            <p:cNvSpPr/>
            <p:nvPr/>
          </p:nvSpPr>
          <p:spPr>
            <a:xfrm>
              <a:off x="685800" y="1219320"/>
              <a:ext cx="7899120" cy="4360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4.2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触发方式和中断响应过程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4419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触发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边沿触发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电平触发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查询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它的一条或多条中断请求线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变为高电平时，它就使中断请求锁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应的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这些请求，它就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出高电平有效信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请求中断服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前一条指令执行完毕，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应中断请求，进入中断响应总线周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到来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第一个脉冲，把允许中断的最高优先级请求位，置入服务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并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对应的位清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第二个总线周期，再次发出一个脉冲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到第二个脉冲，送出中断类型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取该类型码。第二个中断响应周期，总线封锁撤销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386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43023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981080" y="5638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1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响应总线周期时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1.2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源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外部设备请求中断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系统中外设所发生的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实时请求中断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时中断用于实时系统中，在工业控制中经常使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故障请求中断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机器硬件错误有关的中断系统称谓硬件故障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程序性中断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用户程序错误有关的中断，统称为程序性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4.3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工作方式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38280" y="2209680"/>
            <a:ext cx="510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般完全嵌套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殊完全嵌套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优先级自动循环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优先级特殊循环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4.4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屏蔽中断源的方式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66880" y="297144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普通屏蔽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殊屏蔽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4.5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结束中断处理的方式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6000" y="2057400"/>
            <a:ext cx="4572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自动结束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般的中断结束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殊的中断结束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4.6  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级联方式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缓冲方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总线驱动器和数据总线相连，这就是缓冲方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非缓冲方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系统中只有单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一般将它直接与数据总线相连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4" name=""/>
          <p:cNvGraphicFramePr/>
          <p:nvPr/>
        </p:nvGraphicFramePr>
        <p:xfrm>
          <a:off x="228600" y="1020600"/>
          <a:ext cx="8534520" cy="47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0600"/>
                    <a:ext cx="85345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1981080" y="5943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17  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冲方式下级连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447920" y="5791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-18  8259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缓冲方式下级连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0880" y="990720"/>
          <a:ext cx="82454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2454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5.4.7  8259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初始化命令字和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操作方式命令字</a:t>
            </a:r>
            <a:endParaRPr b="1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5943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初始化命令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C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CW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CW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CW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CW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初始化命令字的编程顺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5334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19  ICW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4920" y="1262160"/>
          <a:ext cx="853416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62160"/>
                    <a:ext cx="853416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590920" y="4724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20   ICW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命令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914400" y="1447920"/>
          <a:ext cx="72421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2421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752480" y="53341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2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CW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09480" y="1905120"/>
          <a:ext cx="7775640" cy="26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775640" cy="26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5.2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中断的处理过程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133720"/>
            <a:ext cx="6248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5.2.1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" action="ppaction://hlinksldjump"/>
              </a:rPr>
              <a:t>中断请求与中断屏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3" action="ppaction://hlinksldjump"/>
              </a:rPr>
              <a:t>5.2.2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4" action="ppaction://hlinksldjump"/>
              </a:rPr>
              <a:t>中断优先级排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5" action="ppaction://hlinksldjump"/>
              </a:rPr>
              <a:t>5.2.3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6" action="ppaction://hlinksldjump"/>
              </a:rPr>
              <a:t>中断响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7" action="ppaction://hlinksldjump"/>
              </a:rPr>
              <a:t>5.2.4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8" action="ppaction://hlinksldjump"/>
              </a:rPr>
              <a:t>中断处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6324480"/>
            <a:ext cx="19605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666880" y="5638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-23  ICW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04920" y="1081080"/>
          <a:ext cx="830556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81080"/>
                    <a:ext cx="830556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207120" y="609480"/>
            <a:ext cx="10335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24  8059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初始化命令字的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209680" y="685800"/>
          <a:ext cx="35323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685800"/>
                    <a:ext cx="35323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5.5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中断程序举例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5.5.1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2" action="ppaction://hlinksldjump"/>
              </a:rPr>
              <a:t>IBM-PC/XT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3" action="ppaction://hlinksldjump"/>
              </a:rPr>
              <a:t>机对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4" action="ppaction://hlinksldjump"/>
              </a:rPr>
              <a:t>8259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5" action="ppaction://hlinksldjump"/>
              </a:rPr>
              <a:t>A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6" action="ppaction://hlinksldjump"/>
              </a:rPr>
              <a:t>的初始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7" action="ppaction://hlinksldjump"/>
              </a:rPr>
              <a:t>5.5.2  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8" action="ppaction://hlinksldjump"/>
              </a:rPr>
              <a:t>IBM-PC/AT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9" action="ppaction://hlinksldjump"/>
              </a:rPr>
              <a:t>机对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0" action="ppaction://hlinksldjump"/>
              </a:rPr>
              <a:t>8259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1" action="ppaction://hlinksldjump"/>
              </a:rPr>
              <a:t>A</a:t>
            </a:r>
            <a:r>
              <a:rPr b="1" lang="zh-CN" sz="32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2" action="ppaction://hlinksldjump"/>
              </a:rPr>
              <a:t>的初始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6324480"/>
            <a:ext cx="188424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5.5.1  IBM-PC/XT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机对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8259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的初始化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初始化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86/80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、单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边沿触发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向量初始值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Q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子钟中断向量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服务结束时，用常规的中断结束命令，固定优先权级别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屏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屏蔽所有中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屏蔽某中断源使其不发中断请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查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断结束命令字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5.5.2  IBM-PC/AT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机对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8259A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的初始化</a:t>
            </a:r>
            <a:endParaRPr b="1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初始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082960"/>
            <a:ext cx="7696440" cy="44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1H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边沿触发，级连，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    20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JMP     SHORL$+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端口的延时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  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8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2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断类型号的初值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8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   2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4H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4=00000100B  OCW3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片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主片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   2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JMP   SHORL$+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端口的延时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9H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4 808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系统，非自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O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非缓冲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特殊完全嵌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初始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259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1828800"/>
            <a:ext cx="761976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1H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边沿触发，级连，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    0A0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JMP   SHORL$+2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端口的延时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 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0H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2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断类型号的初值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    0A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  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2H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CW3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片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主片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     0A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HORL$+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端口的延时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OV   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1H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CW4 808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系统，非自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O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非缓冲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一般完全嵌套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A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rId1" action="ppaction://hlinksldjump"/>
          </p:cNvPr>
          <p:cNvSpPr/>
          <p:nvPr/>
        </p:nvSpPr>
        <p:spPr>
          <a:xfrm>
            <a:off x="7010280" y="6324480"/>
            <a:ext cx="18082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endshow"/>
          </p:cNvPr>
          <p:cNvSpPr/>
          <p:nvPr/>
        </p:nvSpPr>
        <p:spPr>
          <a:xfrm>
            <a:off x="5844240" y="63403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处理一个中断的过程，就是妥善处理以下一些基本问题的过程：</a:t>
            </a:r>
            <a:endParaRPr b="1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何时检查中断输入信号及其处理办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何把控制转给中断服务程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何保护和恢复中断的现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何识别中断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何识别优先级较高的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何开放和关闭中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Arial"/>
              </a:rPr>
              <a:t>5.2.1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请求与中断屏蔽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请求的定义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某种信号通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明某台外设正在请求需要中断现行程序的执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请求的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第一、外设本身的准备工作已完成；第二、系统允许该外设发中断请求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屏蔽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此触发器在程序控制下，使触发器输出端置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允许中断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若触发器输出端置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则关闭中断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33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5.2.2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中断优先级排队</a:t>
            </a:r>
            <a:endParaRPr b="1" lang="en-US" sz="36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断优先级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在处理中断时，能响应更高级别的中断请求，而屏蔽掉同级或较低级别的中断请求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级中断处理和多级中断处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单级中断处理不允许其他设备再中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程序；多级中断处理允许优先级高的中断打断优先级低的中断服务程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06:04:42Z</dcterms:created>
  <dc:creator>liwu</dc:creator>
  <dc:description/>
  <dc:language>en-US</dc:language>
  <cp:lastModifiedBy>新人电脑</cp:lastModifiedBy>
  <dcterms:modified xsi:type="dcterms:W3CDTF">2002-01-23T06:18:18Z</dcterms:modified>
  <cp:revision>31</cp:revision>
  <dc:subject/>
  <dc:title>第5章  中断系统 </dc:title>
</cp:coreProperties>
</file>